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1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858000" cy="9144000"/>
  <p:custShowLst>
    <p:custShow name="Study Guide" id="0">
      <p:sldLst>
        <p:sld r:id="rId65"/>
        <p:sld r:id="rId66"/>
        <p:sld r:id="rId67"/>
        <p:sld r:id="rId6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slide" Target="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l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r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"/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6">
            <a:hlinkClick r:id="rId3" action="ppaction://hlinksldjump"/>
          </p:cNvPr>
          <p:cNvSpPr/>
          <p:nvPr/>
        </p:nvSpPr>
        <p:spPr>
          <a:xfrm>
            <a:off x="1371600" y="220968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9"/>
          <p:cNvSpPr/>
          <p:nvPr/>
        </p:nvSpPr>
        <p:spPr>
          <a:xfrm>
            <a:off x="1600200" y="3549600"/>
            <a:ext cx="693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5: Electrons in Ato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606600" y="198108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eed of light (3.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/s) is the product of it’s wavelength and frequency </a:t>
            </a:r>
            <a:br>
              <a:rPr sz="2800"/>
            </a:br>
            <a:r>
              <a:rPr b="1" i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= λ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C05-02C-828378-08"/>
          <p:cNvPicPr/>
          <p:nvPr/>
        </p:nvPicPr>
        <p:blipFill>
          <a:blip r:embed="rId1"/>
          <a:stretch/>
        </p:blipFill>
        <p:spPr>
          <a:xfrm>
            <a:off x="2405160" y="2971800"/>
            <a:ext cx="4833720" cy="28656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606600" y="1981080"/>
            <a:ext cx="7826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light contains a continuous range of wavelengths and frequen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606600" y="3022560"/>
            <a:ext cx="823248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sm separates sunlight into a continuous spectrum of col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magnetic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all forms of electromagnetic radi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6" descr="C05-03C-828378-08"/>
          <p:cNvPicPr/>
          <p:nvPr/>
        </p:nvPicPr>
        <p:blipFill>
          <a:blip r:embed="rId1"/>
          <a:stretch/>
        </p:blipFill>
        <p:spPr>
          <a:xfrm>
            <a:off x="1143000" y="1830240"/>
            <a:ext cx="6743880" cy="4113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4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Particle Nature of L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603360" y="1952640"/>
            <a:ext cx="823572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ve model of light cannot explain all of light’s characteris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heated objects emit only certain frequencies of light at a given temperatu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606600" y="3857760"/>
            <a:ext cx="823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0, German physicist Max Planck (1858-1947) began searching for an explanation of this phenomenon as he studied the light emitted by heated objects.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Particle Nature of Light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80880" y="1600200"/>
            <a:ext cx="84582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349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ck’s study led him to a startling conclus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1728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can gain or lose energy only in small, specific amounts called quan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1728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quant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1728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349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1728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lanck’s const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valu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2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–34 J ●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5208840" cy="12888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7"/>
          <p:cNvSpPr/>
          <p:nvPr/>
        </p:nvSpPr>
        <p:spPr>
          <a:xfrm>
            <a:off x="1371600" y="2209680"/>
            <a:ext cx="0" cy="426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544680" y="167652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otoelectric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n electrons are emitted from a metal’s surface when light of a certain frequency shines on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C05-04C-828378-08"/>
          <p:cNvPicPr/>
          <p:nvPr/>
        </p:nvPicPr>
        <p:blipFill>
          <a:blip r:embed="rId1"/>
          <a:stretch/>
        </p:blipFill>
        <p:spPr>
          <a:xfrm>
            <a:off x="914400" y="2971800"/>
            <a:ext cx="7315200" cy="2897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Particle Nature of Light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530280" y="17305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rt Einstein proposed in 1905 that light has a dual natur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30280" y="2565360"/>
            <a:ext cx="80042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169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eam of light has wavelike and particlelike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69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"/>
          <p:cNvPicPr/>
          <p:nvPr/>
        </p:nvPicPr>
        <p:blipFill>
          <a:blip r:embed="rId1"/>
          <a:stretch/>
        </p:blipFill>
        <p:spPr>
          <a:xfrm>
            <a:off x="1001880" y="4172040"/>
            <a:ext cx="7151400" cy="17715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Particle Nature of Light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Emission Spectr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606600" y="198108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n a neon sign is produced when electricity is passed through a tube filled with neon gas and excites the neon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606600" y="3395520"/>
            <a:ext cx="777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ited atoms return to their stable state by emitting light to release energ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Emission Spectra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6" descr="C05-06C-828378-08"/>
          <p:cNvPicPr/>
          <p:nvPr/>
        </p:nvPicPr>
        <p:blipFill>
          <a:blip r:embed="rId1"/>
          <a:stretch/>
        </p:blipFill>
        <p:spPr>
          <a:xfrm>
            <a:off x="890640" y="1752480"/>
            <a:ext cx="7491240" cy="397836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4"/>
          <p:cNvSpPr/>
          <p:nvPr/>
        </p:nvSpPr>
        <p:spPr>
          <a:xfrm>
            <a:off x="606600" y="1655640"/>
            <a:ext cx="7391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tomic emission spectru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n element is the set of frequencies of the electromagnetic waves emitted by the atoms of the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06600" y="3276720"/>
            <a:ext cx="777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ach element’s atomic emission spectrum is uniqu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C05-06C-828378-08-A"/>
          <p:cNvPicPr/>
          <p:nvPr/>
        </p:nvPicPr>
        <p:blipFill>
          <a:blip r:embed="rId1"/>
          <a:stretch/>
        </p:blipFill>
        <p:spPr>
          <a:xfrm>
            <a:off x="1676520" y="4114800"/>
            <a:ext cx="6167160" cy="1757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Emission Spectra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8"/>
          <p:cNvSpPr/>
          <p:nvPr/>
        </p:nvSpPr>
        <p:spPr>
          <a:xfrm>
            <a:off x="533520" y="2455920"/>
            <a:ext cx="807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5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Light and Quantized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5.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Quantum Theory and the A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5.3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Electron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14" descr="SO_Objectives"/>
          <p:cNvPicPr/>
          <p:nvPr/>
        </p:nvPicPr>
        <p:blipFill>
          <a:blip r:embed="rId1"/>
          <a:stretch/>
        </p:blipFill>
        <p:spPr>
          <a:xfrm>
            <a:off x="557280" y="8031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6"/>
          <p:cNvSpPr/>
          <p:nvPr/>
        </p:nvSpPr>
        <p:spPr>
          <a:xfrm>
            <a:off x="533520" y="1389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and quantum mechanical models of the ato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7" descr="SO_RevVocab"/>
          <p:cNvPicPr/>
          <p:nvPr/>
        </p:nvPicPr>
        <p:blipFill>
          <a:blip r:embed="rId2"/>
          <a:stretch/>
        </p:blipFill>
        <p:spPr>
          <a:xfrm>
            <a:off x="557280" y="4267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8"/>
          <p:cNvSpPr/>
          <p:nvPr/>
        </p:nvSpPr>
        <p:spPr>
          <a:xfrm>
            <a:off x="557280" y="4853160"/>
            <a:ext cx="7367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to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mallest particle of an element that retains all the properties of that element, is composed of electrons, protons, and neutr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533520" y="22860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mpact of de Broglie's wave article duality and the Heisenberg uncertainty principle on the current view of electrons in ato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lationships among a hydrogen atom's energy levels, sublevels, and atomic orbit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8" descr="SO_NewVocab"/>
          <p:cNvPicPr/>
          <p:nvPr/>
        </p:nvPicPr>
        <p:blipFill>
          <a:blip r:embed="rId1"/>
          <a:stretch/>
        </p:blipFill>
        <p:spPr>
          <a:xfrm>
            <a:off x="557280" y="10954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9"/>
          <p:cNvSpPr/>
          <p:nvPr/>
        </p:nvSpPr>
        <p:spPr>
          <a:xfrm>
            <a:off x="557280" y="1684440"/>
            <a:ext cx="352584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ground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quantum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e Broglie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eisenberg uncertainty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2314440" y="480060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velike properties of electrons help relate atomic emission spectra, energy states of atoms, and atomic orbit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3" descr="MainIdea"/>
          <p:cNvPicPr/>
          <p:nvPr/>
        </p:nvPicPr>
        <p:blipFill>
          <a:blip r:embed="rId2"/>
          <a:stretch/>
        </p:blipFill>
        <p:spPr>
          <a:xfrm>
            <a:off x="641520" y="481824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4"/>
          <p:cNvSpPr/>
          <p:nvPr/>
        </p:nvSpPr>
        <p:spPr>
          <a:xfrm>
            <a:off x="4460760" y="1684440"/>
            <a:ext cx="399744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quantum mechanical model of the a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tomic orb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rincipal quantum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rincipal energ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nergy sub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6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457200" y="1835280"/>
            <a:ext cx="823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tein’s theory of light’s dual nature accounted for several unexplainable phenomena but not why atomic emission spectra of elements were discontinuous rather continuou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13, Niels Bohr, a Danish physicist working in Rutherford’s laboratory, proposed a quantum model for the hydrogen atom that seemed to answer this ques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r correctly predicted the frequency lines in hydrogen’s atomic emission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57200" y="2976480"/>
            <a:ext cx="83818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is called its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ground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hen an atom gains energy, it is in an excited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13"/>
          <p:cNvSpPr/>
          <p:nvPr/>
        </p:nvSpPr>
        <p:spPr>
          <a:xfrm>
            <a:off x="457200" y="165096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r suggested that an electron moves around the nucleus only in certain allowed circular orb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6" descr="C05-02A-874637"/>
          <p:cNvPicPr/>
          <p:nvPr/>
        </p:nvPicPr>
        <p:blipFill>
          <a:blip r:embed="rId1"/>
          <a:stretch/>
        </p:blipFill>
        <p:spPr>
          <a:xfrm>
            <a:off x="1623960" y="3006720"/>
            <a:ext cx="5691240" cy="293688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21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457200" y="16002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rbit was given a number,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quantum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" descr="TABLE05"/>
          <p:cNvPicPr/>
          <p:nvPr/>
        </p:nvPicPr>
        <p:blipFill>
          <a:blip r:embed="rId1"/>
          <a:stretch/>
        </p:blipFill>
        <p:spPr>
          <a:xfrm>
            <a:off x="800280" y="2590920"/>
            <a:ext cx="7519680" cy="308268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10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457200" y="228924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’s single electron is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orbit in the ground s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57200" y="333072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ergy is added, the electron moves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orb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8" descr="C05-07C-828378-08"/>
          <p:cNvPicPr/>
          <p:nvPr/>
        </p:nvPicPr>
        <p:blipFill>
          <a:blip r:embed="rId1"/>
          <a:stretch/>
        </p:blipFill>
        <p:spPr>
          <a:xfrm>
            <a:off x="1119240" y="1762200"/>
            <a:ext cx="6972120" cy="360504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14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8" descr="CIM"/>
          <p:cNvPicPr/>
          <p:nvPr/>
        </p:nvPicPr>
        <p:blipFill>
          <a:blip r:embed="rId2"/>
          <a:stretch/>
        </p:blipFill>
        <p:spPr>
          <a:xfrm>
            <a:off x="3657600" y="548640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6" descr="C05-08C-828378-08"/>
          <p:cNvPicPr/>
          <p:nvPr/>
        </p:nvPicPr>
        <p:blipFill>
          <a:blip r:embed="rId1"/>
          <a:stretch/>
        </p:blipFill>
        <p:spPr>
          <a:xfrm>
            <a:off x="3124080" y="1600200"/>
            <a:ext cx="2748240" cy="426708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10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6" descr="CIM"/>
          <p:cNvPicPr/>
          <p:nvPr/>
        </p:nvPicPr>
        <p:blipFill>
          <a:blip r:embed="rId2"/>
          <a:stretch/>
        </p:blipFill>
        <p:spPr>
          <a:xfrm>
            <a:off x="6400800" y="160020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/>
          <p:cNvSpPr/>
          <p:nvPr/>
        </p:nvSpPr>
        <p:spPr>
          <a:xfrm>
            <a:off x="457200" y="1828800"/>
            <a:ext cx="8381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r’s model explained the hydrogen’s spectral lines, but failed to explain any other element’s lin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457200" y="3243240"/>
            <a:ext cx="8381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ehavior of electrons is still not fully underst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t is known they do not move around the nucleus in circular orb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ohr's Model of the Atom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2" descr="SO_Objectives"/>
          <p:cNvPicPr/>
          <p:nvPr/>
        </p:nvPicPr>
        <p:blipFill>
          <a:blip r:embed="rId1"/>
          <a:stretch/>
        </p:blipFill>
        <p:spPr>
          <a:xfrm>
            <a:off x="60156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"/>
          <p:cNvSpPr/>
          <p:nvPr/>
        </p:nvSpPr>
        <p:spPr>
          <a:xfrm>
            <a:off x="609480" y="15764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ave and particle natures of 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5" descr="SO_RevVocab"/>
          <p:cNvPicPr/>
          <p:nvPr/>
        </p:nvPicPr>
        <p:blipFill>
          <a:blip r:embed="rId2"/>
          <a:stretch/>
        </p:blipFill>
        <p:spPr>
          <a:xfrm>
            <a:off x="633240" y="3949560"/>
            <a:ext cx="412308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6"/>
          <p:cNvSpPr/>
          <p:nvPr/>
        </p:nvSpPr>
        <p:spPr>
          <a:xfrm>
            <a:off x="633240" y="4535640"/>
            <a:ext cx="7215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adi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ys and particles —alpha particles, beta particles, and gamma rays—that are emitted by radioactive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609480" y="2120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antum of energy, and explain how it is related to an energy change of mat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ous electromagnetic spectra and atomic emission spec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3"/>
          <p:cNvSpPr/>
          <p:nvPr/>
        </p:nvSpPr>
        <p:spPr>
          <a:xfrm>
            <a:off x="460440" y="1066680"/>
            <a:ext cx="845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457200" y="2184480"/>
            <a:ext cx="8381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de Broglie (1892–1987) hypothesized that particles, including electrons, could also have wavelike behavi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3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530280" y="205740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illustrates that electrons orbit the nucleus only in whole-number wavelength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7" descr="C05-09C-828378-08"/>
          <p:cNvPicPr/>
          <p:nvPr/>
        </p:nvPicPr>
        <p:blipFill>
          <a:blip r:embed="rId1"/>
          <a:stretch/>
        </p:blipFill>
        <p:spPr>
          <a:xfrm>
            <a:off x="3581280" y="2890800"/>
            <a:ext cx="4496040" cy="30528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11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4"/>
          <p:cNvSpPr/>
          <p:nvPr/>
        </p:nvSpPr>
        <p:spPr>
          <a:xfrm>
            <a:off x="530280" y="21877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e Broglie equ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s that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8" descr=""/>
          <p:cNvPicPr/>
          <p:nvPr/>
        </p:nvPicPr>
        <p:blipFill>
          <a:blip r:embed="rId1"/>
          <a:stretch/>
        </p:blipFill>
        <p:spPr>
          <a:xfrm>
            <a:off x="838080" y="3191040"/>
            <a:ext cx="7183440" cy="22190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1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4"/>
          <p:cNvSpPr/>
          <p:nvPr/>
        </p:nvSpPr>
        <p:spPr>
          <a:xfrm>
            <a:off x="530280" y="211140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senberg showed it is impossible to take any measurement of an object without disturbing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530280" y="3048120"/>
            <a:ext cx="838512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eisenberg uncertainty princip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it i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quantity that can be known is the probability for an electron to occupy a certain region around the nucle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6" descr="C05-10C-828378-08"/>
          <p:cNvPicPr/>
          <p:nvPr/>
        </p:nvPicPr>
        <p:blipFill>
          <a:blip r:embed="rId1"/>
          <a:stretch/>
        </p:blipFill>
        <p:spPr>
          <a:xfrm>
            <a:off x="876240" y="2178000"/>
            <a:ext cx="7353360" cy="353700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10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457200" y="221940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hrödinger treated electrons as waves in a model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quantum mechanical model of the at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457200" y="363528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rödinger’s equation applied equally well to elements other than hydroge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530280" y="2070000"/>
            <a:ext cx="8385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ve function predicts a three-dimensional region around the nucleus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tomic orb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6" descr="C05-11C-828378-08"/>
          <p:cNvPicPr/>
          <p:nvPr/>
        </p:nvPicPr>
        <p:blipFill>
          <a:blip r:embed="rId1"/>
          <a:stretch/>
        </p:blipFill>
        <p:spPr>
          <a:xfrm>
            <a:off x="2286000" y="3124080"/>
            <a:ext cx="5029200" cy="271152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0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57200" y="10666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Quantum Mechanical Model of the Atom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3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57200" y="18288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rincipal quantum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dicate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457200" y="324468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rincipal energy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3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457200" y="18288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nergy sub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tained within the principal energy leve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C05-12C-828378-08"/>
          <p:cNvPicPr/>
          <p:nvPr/>
        </p:nvPicPr>
        <p:blipFill>
          <a:blip r:embed="rId1"/>
          <a:stretch/>
        </p:blipFill>
        <p:spPr>
          <a:xfrm>
            <a:off x="1328760" y="2895480"/>
            <a:ext cx="6286320" cy="29052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11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3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57200" y="16318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ergy sublevel relates to orbitals of different sha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1603440" y="2438280"/>
            <a:ext cx="5788080" cy="354960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3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8" descr="SO_NewVocab"/>
          <p:cNvPicPr/>
          <p:nvPr/>
        </p:nvPicPr>
        <p:blipFill>
          <a:blip r:embed="rId1"/>
          <a:stretch/>
        </p:blipFill>
        <p:spPr>
          <a:xfrm>
            <a:off x="557280" y="977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557280" y="1596960"/>
            <a:ext cx="401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magnetic rad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frequ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mplit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magnetic spect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2314440" y="478944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ght, a form of electronic radiation,  has characteristics of both a wave and a parti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MainIdea"/>
          <p:cNvPicPr/>
          <p:nvPr/>
        </p:nvPicPr>
        <p:blipFill>
          <a:blip r:embed="rId2"/>
          <a:stretch/>
        </p:blipFill>
        <p:spPr>
          <a:xfrm>
            <a:off x="641520" y="480708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4"/>
          <p:cNvSpPr/>
          <p:nvPr/>
        </p:nvSpPr>
        <p:spPr>
          <a:xfrm>
            <a:off x="4433760" y="1596960"/>
            <a:ext cx="401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quant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lanck's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otoelectric ef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o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tomic emission spect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6" descr="TABLE05"/>
          <p:cNvPicPr/>
          <p:nvPr/>
        </p:nvPicPr>
        <p:blipFill>
          <a:blip r:embed="rId1"/>
          <a:stretch/>
        </p:blipFill>
        <p:spPr>
          <a:xfrm>
            <a:off x="914400" y="1905120"/>
            <a:ext cx="7277040" cy="33987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0"/>
          <p:cNvSpPr/>
          <p:nvPr/>
        </p:nvSpPr>
        <p:spPr>
          <a:xfrm>
            <a:off x="914400" y="13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Hydrogen Atomic Orbital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16" descr="SO_Objectives"/>
          <p:cNvPicPr/>
          <p:nvPr/>
        </p:nvPicPr>
        <p:blipFill>
          <a:blip r:embed="rId1"/>
          <a:stretch/>
        </p:blipFill>
        <p:spPr>
          <a:xfrm>
            <a:off x="557280" y="914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18"/>
          <p:cNvSpPr/>
          <p:nvPr/>
        </p:nvSpPr>
        <p:spPr>
          <a:xfrm>
            <a:off x="533520" y="15001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auli exclusion principle, the aufbau principle, and Hund's rule to write electron configurations using orbital diagrams and electron configuration no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19" descr="SO_RevVocab"/>
          <p:cNvPicPr/>
          <p:nvPr/>
        </p:nvPicPr>
        <p:blipFill>
          <a:blip r:embed="rId2"/>
          <a:stretch/>
        </p:blipFill>
        <p:spPr>
          <a:xfrm>
            <a:off x="557280" y="40258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557280" y="4611600"/>
            <a:ext cx="7672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lectr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gatively charged, fast-moving particle with an extremely small mass that is found in all forms of matter and moves through the empty space surrounding an atom's nucle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533520" y="314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ence electrons, and draw electron-dot structures representing an atom's valence electr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0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8" descr="SO_NewVocab"/>
          <p:cNvPicPr/>
          <p:nvPr/>
        </p:nvPicPr>
        <p:blipFill>
          <a:blip r:embed="rId1"/>
          <a:stretch/>
        </p:blipFill>
        <p:spPr>
          <a:xfrm>
            <a:off x="55728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9"/>
          <p:cNvSpPr/>
          <p:nvPr/>
        </p:nvSpPr>
        <p:spPr>
          <a:xfrm>
            <a:off x="557280" y="1655640"/>
            <a:ext cx="401328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n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ufbau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auli exclusion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und's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valence elect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n-dot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2"/>
          <p:cNvSpPr/>
          <p:nvPr/>
        </p:nvSpPr>
        <p:spPr>
          <a:xfrm>
            <a:off x="2314440" y="518148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t of three rules determines the arrangement in an ato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13" descr="MainIdea"/>
          <p:cNvPicPr/>
          <p:nvPr/>
        </p:nvPicPr>
        <p:blipFill>
          <a:blip r:embed="rId2"/>
          <a:stretch/>
        </p:blipFill>
        <p:spPr>
          <a:xfrm>
            <a:off x="641520" y="519912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7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6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457200" y="160020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ngement of electrons in the atom is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n config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457200" y="251460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ufbau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4" descr="C05-16C-828378-08"/>
          <p:cNvPicPr/>
          <p:nvPr/>
        </p:nvPicPr>
        <p:blipFill>
          <a:blip r:embed="rId1"/>
          <a:stretch/>
        </p:blipFill>
        <p:spPr>
          <a:xfrm>
            <a:off x="2898720" y="3352680"/>
            <a:ext cx="3730680" cy="26449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8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2" descr="TABLE05"/>
          <p:cNvPicPr/>
          <p:nvPr/>
        </p:nvPicPr>
        <p:blipFill>
          <a:blip r:embed="rId1"/>
          <a:stretch/>
        </p:blipFill>
        <p:spPr>
          <a:xfrm>
            <a:off x="609480" y="2158920"/>
            <a:ext cx="7886880" cy="30988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2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457200" y="1571760"/>
            <a:ext cx="8458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auli exclusion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a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457200" y="3086280"/>
            <a:ext cx="56386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und’s ru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singl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ectrons with the same spin must occupy each equal-energy orbital before additional electrons with opposite sp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py the same energy level orbita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6" descr="C05-18C-828378-08"/>
          <p:cNvPicPr/>
          <p:nvPr/>
        </p:nvPicPr>
        <p:blipFill>
          <a:blip r:embed="rId1"/>
          <a:stretch/>
        </p:blipFill>
        <p:spPr>
          <a:xfrm>
            <a:off x="6316560" y="2819520"/>
            <a:ext cx="2446560" cy="289548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6" descr="TABLE05"/>
          <p:cNvPicPr/>
          <p:nvPr/>
        </p:nvPicPr>
        <p:blipFill>
          <a:blip r:embed="rId1"/>
          <a:stretch/>
        </p:blipFill>
        <p:spPr>
          <a:xfrm>
            <a:off x="2286000" y="1752480"/>
            <a:ext cx="6019920" cy="40006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5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6" descr="CIM"/>
          <p:cNvPicPr/>
          <p:nvPr/>
        </p:nvPicPr>
        <p:blipFill>
          <a:blip r:embed="rId2"/>
          <a:stretch/>
        </p:blipFill>
        <p:spPr>
          <a:xfrm>
            <a:off x="304920" y="213372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4"/>
          <p:cNvSpPr/>
          <p:nvPr/>
        </p:nvSpPr>
        <p:spPr>
          <a:xfrm>
            <a:off x="457200" y="152388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le gas notation uses noble gas symbols in brackets to shorten inner electron configurations of other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TABLE05"/>
          <p:cNvPicPr/>
          <p:nvPr/>
        </p:nvPicPr>
        <p:blipFill>
          <a:blip r:embed="rId1"/>
          <a:stretch/>
        </p:blipFill>
        <p:spPr>
          <a:xfrm>
            <a:off x="2540160" y="2806560"/>
            <a:ext cx="4165560" cy="32133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5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11"/>
          <p:cNvSpPr/>
          <p:nvPr/>
        </p:nvSpPr>
        <p:spPr>
          <a:xfrm>
            <a:off x="457200" y="1832040"/>
            <a:ext cx="78516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fbau diagram can be used to write correct ground-state electron configurations for all elements up to and including Vanadium, atomic number 23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 configurations for certain transition metals, like chromium and copper, do not follow the aufbau diagram due to increased stability of half-filled and filled sets of s and d orbital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7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Ground-State Electron Configura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46044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Valence Elect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457200" y="182880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Valence electr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efined a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457200" y="3619440"/>
            <a:ext cx="777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n-dot struc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ement’s symbol representing the nucleus, surrounded by dots representing the element’s valence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457200" y="1066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Atom and Unanswered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606600" y="175248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in Rutherford's model, the atom’s mass is concentrated in the nucleus and electrons move around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606600" y="3166920"/>
            <a:ext cx="777528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doesn’t explain how the electrons were arranged around the nucle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doesn’t explain why negatively charged electrons aren’t pulled into the positively charged nucle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Valence Electron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6" descr="TABLE05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425124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15" descr="CIM"/>
          <p:cNvPicPr/>
          <p:nvPr/>
        </p:nvPicPr>
        <p:blipFill>
          <a:blip r:embed="rId2"/>
          <a:stretch/>
        </p:blipFill>
        <p:spPr>
          <a:xfrm>
            <a:off x="304920" y="213372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"/>
          <p:cNvSpPr/>
          <p:nvPr/>
        </p:nvSpPr>
        <p:spPr>
          <a:xfrm>
            <a:off x="495360" y="14479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495360" y="2038320"/>
            <a:ext cx="819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waves are defined by their wavelengths, frequencies, amplitudes, and speeds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λ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495360" y="3319560"/>
            <a:ext cx="82677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vacuum, all electromagnetic waves travel at the speed of 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electromagnetic waves have both wave and particle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ter emits and absorbs energy in quanta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7"/>
          <p:cNvSpPr/>
          <p:nvPr/>
        </p:nvSpPr>
        <p:spPr>
          <a:xfrm>
            <a:off x="838080" y="29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4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5"/>
          <p:cNvSpPr/>
          <p:nvPr/>
        </p:nvSpPr>
        <p:spPr>
          <a:xfrm>
            <a:off x="495360" y="137160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495360" y="1981080"/>
            <a:ext cx="8420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light produces a continuous spectrum. An element’s emission spectrum consists of a series of lines of individual colo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6"/>
          <p:cNvSpPr/>
          <p:nvPr/>
        </p:nvSpPr>
        <p:spPr>
          <a:xfrm>
            <a:off x="838080" y="29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6"/>
          <p:cNvSpPr/>
          <p:nvPr/>
        </p:nvSpPr>
        <p:spPr>
          <a:xfrm>
            <a:off x="495360" y="1704960"/>
            <a:ext cx="8420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r’s atomic model attributes hydrogen’s emission spectrum to electrons dropping from higher-energy to lower-energy orbi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er-energy orb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er-energy orb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ho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495360" y="3043080"/>
            <a:ext cx="849636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 Broglie equation relates a particle’s wavelength to its mass, its velocity, and Planck’s constant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 = 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quantum mechanical model of the atom assumes that electrons have wave properti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 occupy three-dimensional regions of space called atomic orbita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6"/>
          <p:cNvSpPr/>
          <p:nvPr/>
        </p:nvSpPr>
        <p:spPr>
          <a:xfrm>
            <a:off x="838080" y="29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um Theory and the At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495360" y="128124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495360" y="182880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rrangement of electrons in an atom is called the atom’s electron configur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495360" y="2779560"/>
            <a:ext cx="803916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 configurations are defined by the aufbau principle, the Pauli exclusion principle, and Hund’s ru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element’s valence electrons determine the chemical properties of the elem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 configurations can be represented using orbital diagrams, electron configuration notation, and electron-dot struc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838080" y="29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3"/>
          <p:cNvSpPr/>
          <p:nvPr/>
        </p:nvSpPr>
        <p:spPr>
          <a:xfrm>
            <a:off x="457200" y="1066680"/>
            <a:ext cx="800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Atom and Unanswered Question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606600" y="198108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arly 1900s, scientists observed certain elements emitted visible light when heated in a fla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606600" y="3395520"/>
            <a:ext cx="7775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the emitted light revealed that an element’s chemical behavior is related to the arrangement of the electrons in its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6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606600" y="198108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light is a type of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magnetic ra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form of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606600" y="3762360"/>
            <a:ext cx="777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aves can be described by several characteris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606600" y="1957320"/>
            <a:ext cx="739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waveleng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λ)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606600" y="3371760"/>
            <a:ext cx="77752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frequenc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ν) i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457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Wave Nature of Light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C05-01C-828378-08"/>
          <p:cNvPicPr/>
          <p:nvPr/>
        </p:nvPicPr>
        <p:blipFill>
          <a:blip r:embed="rId1"/>
          <a:stretch/>
        </p:blipFill>
        <p:spPr>
          <a:xfrm>
            <a:off x="800280" y="2317680"/>
            <a:ext cx="7657920" cy="2711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2209680" y="-3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and Quantized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3-10-23T22:03:02Z</dcterms:modified>
  <cp:revision>165</cp:revision>
  <dc:subject/>
  <dc:title>Chemistry: Matter and Change</dc:title>
</cp:coreProperties>
</file>